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EDA-1144-48B5-9C07-606DE853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4EF-0374-433B-B3A2-F614B33D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C81-28CD-44E8-8896-83E305B0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ECF-AC83-452F-B56B-E94B68CA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3B6A-CCBB-4BCD-B326-757F4802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8AF1-0983-423D-91A5-0ACA644B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1212-1979-42A9-9965-2ACE242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9626-D216-4E5D-98B6-606EDF1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14FB-4893-485F-AB93-2A956862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8C00-5309-4B55-8A56-3BA6CC54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E8A0-5BCB-46C9-A8EC-83D197D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895-93AE-4969-804A-D6887DBE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AC0E-11D6-4A40-A632-2B44894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503F-7A2F-4294-8B48-781F9281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781F-C500-4ED3-98AC-448A3C88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5EA3-8443-41DE-8F3F-05F5158F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AC84-E146-4D7C-964D-0AFCC954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03A-BA36-4D8C-80A3-B6CF6D72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FABF9-28D1-4836-8EC3-75DFBA5D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0362-34AC-4523-B64E-CAEA77A5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77A0-73E0-46E5-8193-306150F0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901-6604-4025-B154-C9BBCD4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D197-72F8-4696-8056-77B24816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242B-F41E-460D-9493-37EC9C7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2AB3-7CB6-4715-90C0-B936B4A5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0D54-3BF3-4041-842F-E1FA70C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B7E1-6C7E-42BE-81DF-DB3C081D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519C-95A2-4864-80A3-E0D2EBB7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E923-EB66-4436-A360-74A0733E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265F-69C6-4663-9D24-911FAAC6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07C32-2DF0-4A8B-A3A3-B0285635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230E-9174-4E2F-9A09-123BFEFE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DE8-A8F5-4527-8ADA-E6AEB3D3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FD27-9EB6-4EDB-81F7-EE66015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6CD4D-0EFC-4CDD-9D38-9D2A473E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45E8-42BF-4E43-B1B6-240CCA8F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134C-D2D0-4B27-B8DE-A659EC32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9B19-2974-4AAC-8826-1805A5DD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FD0A-EBF5-427E-9EAE-333D5FD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5990-B915-45C3-9188-3AC1C8C6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8D1A-6D48-4589-B35E-F7ABC58C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1B06-B0C5-48A5-BA86-7BFA25D8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92E8D-932D-4910-9D29-2ABE9A87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29F-2D87-4DC2-8A4E-D0E5AF33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DC3D-AD7A-4049-97F5-7296C6E5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9D30-6D64-4424-8B2F-C5BD1071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C8586-06A2-4814-9550-B01D9145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60411-67FE-44B9-B086-D1D7CC9F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BBB36-6A64-44B9-9CAC-71A7E930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7A87-732C-4C8E-9DDA-944B4B8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FEAFF-1AF4-4D3B-A2F7-49BD5A2D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0F1A-BF9F-43E3-8052-5CD6EE9D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FE1D-FB67-411E-81DE-9BD44645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27154-6D21-4F6F-8EAB-358CE29C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3AA-5DC1-4CD4-ACE9-ADB702CE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54D6-19F8-4E7D-8A38-DE15C6D7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D700-1663-4622-939B-CD18A9CA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E8CC-8B70-4D8D-ADA1-F3B45D0E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AA6-C23F-455C-8158-2693C2D4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EA0-A9A4-4BC5-9BF1-F2981321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88CD-53A8-4D28-BB51-B1773D05DEC2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Группа 14"/>
          <p:cNvGrpSpPr/>
          <p:nvPr/>
        </p:nvGrpSpPr>
        <p:grpSpPr>
          <a:xfrm>
            <a:off x="826920" y="1219320"/>
            <a:ext cx="7490160" cy="83880"/>
            <a:chOff x="826920" y="1219320"/>
            <a:chExt cx="7490160" cy="83880"/>
          </a:xfrm>
        </p:grpSpPr>
        <p:sp>
          <p:nvSpPr>
            <p:cNvPr id="6" name="Прямая соединительная линия 12"/>
            <p:cNvSpPr/>
            <p:nvPr/>
          </p:nvSpPr>
          <p:spPr>
            <a:xfrm flipH="1">
              <a:off x="826920" y="1219320"/>
              <a:ext cx="749016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7" name="Прямая соединительная линия 13"/>
            <p:cNvSpPr/>
            <p:nvPr/>
          </p:nvSpPr>
          <p:spPr>
            <a:xfrm flipH="1">
              <a:off x="826920" y="1303200"/>
              <a:ext cx="749016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46" name="Рисунок 10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ADD7-46F2-468A-AA0F-E3211BEB1198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2"/>
          <p:cNvGrpSpPr/>
          <p:nvPr/>
        </p:nvGrpSpPr>
        <p:grpSpPr>
          <a:xfrm>
            <a:off x="0" y="5645160"/>
            <a:ext cx="9144000" cy="63360"/>
            <a:chOff x="0" y="5645160"/>
            <a:chExt cx="9144000" cy="63360"/>
          </a:xfrm>
        </p:grpSpPr>
        <p:sp>
          <p:nvSpPr>
            <p:cNvPr id="89" name="Прямая соединительная линия 10"/>
            <p:cNvSpPr/>
            <p:nvPr/>
          </p:nvSpPr>
          <p:spPr>
            <a:xfrm flipH="1">
              <a:off x="0" y="56451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1"/>
            <p:cNvSpPr/>
            <p:nvPr/>
          </p:nvSpPr>
          <p:spPr>
            <a:xfrm flipH="1">
              <a:off x="0" y="570852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grpSp>
        <p:nvGrpSpPr>
          <p:cNvPr id="91" name="Группа 13"/>
          <p:cNvGrpSpPr/>
          <p:nvPr/>
        </p:nvGrpSpPr>
        <p:grpSpPr>
          <a:xfrm>
            <a:off x="0" y="1143000"/>
            <a:ext cx="9144000" cy="63360"/>
            <a:chOff x="0" y="1143000"/>
            <a:chExt cx="9144000" cy="63360"/>
          </a:xfrm>
        </p:grpSpPr>
        <p:sp>
          <p:nvSpPr>
            <p:cNvPr id="92" name="Прямая соединительная линия 15"/>
            <p:cNvSpPr/>
            <p:nvPr/>
          </p:nvSpPr>
          <p:spPr>
            <a:xfrm>
              <a:off x="0" y="12063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6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94" name="Прямоугольник 17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96" name="Рисунок 9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97" name="Пояснительный текст"/>
          <p:cNvSpPr/>
          <p:nvPr/>
        </p:nvSpPr>
        <p:spPr>
          <a:xfrm>
            <a:off x="9258480" y="0"/>
            <a:ext cx="971280" cy="6858000"/>
          </a:xfrm>
          <a:custGeom>
            <a:avLst/>
            <a:gdLst>
              <a:gd name="textAreaLeft" fmla="*/ 27360 w 971280"/>
              <a:gd name="textAreaRight" fmla="*/ 943920 w 971280"/>
              <a:gd name="textAreaTop" fmla="*/ 27360 h 6858000"/>
              <a:gd name="textAreaBottom" fmla="*/ 6830640 h 6858000"/>
            </a:gdLst>
            <a:ahLst/>
            <a:rect l="textAreaLeft" t="textAreaTop" r="textAreaRight" b="textAreaBottom"/>
            <a:pathLst>
              <a:path w="21600" h="152464">
                <a:moveTo>
                  <a:pt x="2099" y="0"/>
                </a:moveTo>
                <a:arcTo wR="2099" hR="2099" stAng="16200000" swAng="-5400000"/>
                <a:lnTo>
                  <a:pt x="0" y="150365"/>
                </a:lnTo>
                <a:arcTo wR="2099" hR="2099" stAng="10800000" swAng="-5400000"/>
                <a:lnTo>
                  <a:pt x="19501" y="152464"/>
                </a:lnTo>
                <a:arcTo wR="2099" hR="2099" stAng="5400000" swAng="-5400000"/>
                <a:lnTo>
                  <a:pt x="21600" y="2099"/>
                </a:lnTo>
                <a:arcTo wR="2099" hR="2099" stAng="0" swAng="-5400000"/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ПРИМЕЧАНИЕ</a:t>
            </a:r>
            <a:endParaRPr b="0" lang="en-US" sz="1100" spc="-1" strike="noStrike">
              <a:solidFill>
                <a:srgbClr val="5148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Чтобы изменить изображение на этом слайде, выберите рисунок и удалите его. Затем нажмите значок "Рисунки" в заполнителе, чтобы вставить изображение.</a:t>
            </a:r>
            <a:endParaRPr b="0" lang="en-US" sz="12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 7"/>
          <p:cNvGrpSpPr/>
          <p:nvPr/>
        </p:nvGrpSpPr>
        <p:grpSpPr>
          <a:xfrm>
            <a:off x="0" y="2514600"/>
            <a:ext cx="9144000" cy="3193560"/>
            <a:chOff x="0" y="2514600"/>
            <a:chExt cx="9144000" cy="3193560"/>
          </a:xfrm>
        </p:grpSpPr>
        <p:grpSp>
          <p:nvGrpSpPr>
            <p:cNvPr id="137" name="Группа 8"/>
            <p:cNvGrpSpPr/>
            <p:nvPr/>
          </p:nvGrpSpPr>
          <p:grpSpPr>
            <a:xfrm>
              <a:off x="0" y="2514600"/>
              <a:ext cx="9144000" cy="63000"/>
              <a:chOff x="0" y="2514600"/>
              <a:chExt cx="9144000" cy="63000"/>
            </a:xfrm>
          </p:grpSpPr>
          <p:sp>
            <p:nvSpPr>
              <p:cNvPr id="138" name="Прямая соединительная линия 17"/>
              <p:cNvSpPr/>
              <p:nvPr/>
            </p:nvSpPr>
            <p:spPr>
              <a:xfrm>
                <a:off x="0" y="257760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8"/>
              <p:cNvSpPr/>
              <p:nvPr/>
            </p:nvSpPr>
            <p:spPr>
              <a:xfrm>
                <a:off x="0" y="251460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  <p:sp>
          <p:nvSpPr>
            <p:cNvPr id="140" name="Прямоугольник 9"/>
            <p:cNvSpPr/>
            <p:nvPr/>
          </p:nvSpPr>
          <p:spPr>
            <a:xfrm>
              <a:off x="0" y="2641320"/>
              <a:ext cx="9144000" cy="2940120"/>
            </a:xfrm>
            <a:prstGeom prst="rect">
              <a:avLst/>
            </a:prstGeom>
            <a:solidFill>
              <a:srgbClr val="514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grpSp>
          <p:nvGrpSpPr>
            <p:cNvPr id="141" name="Группа 10"/>
            <p:cNvGrpSpPr/>
            <p:nvPr/>
          </p:nvGrpSpPr>
          <p:grpSpPr>
            <a:xfrm>
              <a:off x="0" y="5645160"/>
              <a:ext cx="9144000" cy="63000"/>
              <a:chOff x="0" y="5645160"/>
              <a:chExt cx="9144000" cy="63000"/>
            </a:xfrm>
          </p:grpSpPr>
          <p:sp>
            <p:nvSpPr>
              <p:cNvPr id="142" name="Прямая соединительная линия 15"/>
              <p:cNvSpPr/>
              <p:nvPr/>
            </p:nvSpPr>
            <p:spPr>
              <a:xfrm flipH="1">
                <a:off x="0" y="564516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16"/>
              <p:cNvSpPr/>
              <p:nvPr/>
            </p:nvSpPr>
            <p:spPr>
              <a:xfrm flipH="1">
                <a:off x="0" y="570816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Рисунок 6" descr=""/>
          <p:cNvPicPr/>
          <p:nvPr/>
        </p:nvPicPr>
        <p:blipFill>
          <a:blip r:embed="rId2"/>
          <a:stretch/>
        </p:blipFill>
        <p:spPr>
          <a:xfrm>
            <a:off x="993600" y="0"/>
            <a:ext cx="1341720" cy="297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6DF-7F5F-46F2-B56C-224DAE69E88F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35A0-2E0B-437F-A041-0BC2B878A96B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9"/>
          <p:cNvGrpSpPr/>
          <p:nvPr/>
        </p:nvGrpSpPr>
        <p:grpSpPr>
          <a:xfrm>
            <a:off x="6966000" y="453960"/>
            <a:ext cx="63360" cy="5634000"/>
            <a:chOff x="6966000" y="453960"/>
            <a:chExt cx="63360" cy="5634000"/>
          </a:xfrm>
        </p:grpSpPr>
        <p:sp>
          <p:nvSpPr>
            <p:cNvPr id="228" name="Прямая соединительная линия 10"/>
            <p:cNvSpPr/>
            <p:nvPr/>
          </p:nvSpPr>
          <p:spPr>
            <a:xfrm flipV="1">
              <a:off x="7029360" y="453960"/>
              <a:ext cx="0" cy="563400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 8"/>
            <p:cNvSpPr/>
            <p:nvPr/>
          </p:nvSpPr>
          <p:spPr>
            <a:xfrm flipV="1">
              <a:off x="6966000" y="453960"/>
              <a:ext cx="0" cy="563400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7B6A-829C-4961-9273-5F1F99BF6DDC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8720" y="2292480"/>
            <a:ext cx="7572240" cy="2219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4843"/>
                </a:solidFill>
                <a:latin typeface="Plantagenet Cherokee"/>
              </a:rPr>
              <a:t>ПРОЕКТ «ОДАРЕННЫЙ УЧИТЕЛЬ = ОДАРЕННЫЙ РЕБЁНОК» </a:t>
            </a:r>
            <a:endParaRPr b="0" lang="en-US" sz="44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28720" y="4511160"/>
            <a:ext cx="75722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4843"/>
                </a:solidFill>
                <a:latin typeface="Euphemia"/>
              </a:rPr>
              <a:t>в Ульчском муниципальном районе</a:t>
            </a:r>
            <a:endParaRPr b="0" lang="en-US" sz="18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6" descr=""/>
          <p:cNvPicPr/>
          <p:nvPr/>
        </p:nvPicPr>
        <p:blipFill>
          <a:blip r:embed="rId1"/>
          <a:stretch/>
        </p:blipFill>
        <p:spPr>
          <a:xfrm>
            <a:off x="176040" y="0"/>
            <a:ext cx="8571240" cy="65959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22400"/>
            <a:ext cx="8204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640" y="2988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ояснительная записк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муниципальном районе уделяется пристальное внимание работе с одарёнными детьми, накоплен определенный опыт организации мероприятий, направленных на выявление талантливых детей, социальной поддержки школьников, имеющих особые достижения в различных видах деятельности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ыявление одарённых детей начинается в ОО муниципального района с первой ступени обучения, где ведется работа по выявлению увлечений и способностей детей на основе наблюдения, изучения психологических особенностей, речи, памяти, логического мышления. 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8 школах муниципального района созданы научные общества учащихся, деятельность которых осуществляется по следующим направлениям: химико-биологическое, эколого-биологическое, физико-математическое, краеведческое, историко-литературное, лингвистическое, общественно-гуманитарное и другие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Ежегодно в муниципальном районе проводится школьный этап ( для учащихся 4-11 классов) и муниципальный этап Всероссийской олимпиады школьников среди учащихся 7-11 классов по 19 предметам. Победители и призеры муниципального этапа принимают участие в региональном этапе (2016/2017  учебный год – 11 участников, из которых 1 учащаяся стала призером олимпиады по ОБЖ, 2017/2018 учебный год – 29 участников)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учреждениях общего образования педагоги организуют занятия, направленные на развитие познавательных интересов учащихся в выбранной ими области, освоение учебного материала, не предусмотренного образовательными стандартами, через кружки, факультативы, элективные курсы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1413000"/>
            <a:ext cx="74869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Вместе с тем, практика последних лет работы с одарёнными детьми в муниципальном районе показывает, что существуют проблемы и нереализованные возможности в организации работы с одарёнными детьми: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не создана в полном объёме учебно-материальная база для организации работы с одаренными детьми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рганизация работы с детьми, мотивированными на успех, в ОО носит локальный характер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тсутствие высоких достижений учащихся в олимпиадном движении регионального, всероссийского уровней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педагогические работники ОО не всегда готовы осуществлять психолого-педагогическую поддержку одаренных детей.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работа с одаренными детьми требует особой профессиональной подготовки педагогов, внедрения современного программного обеспечения.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Таким образом, проект «Одаренный ребенок = одаренный учитель» направлен на преодоление обозначенных проблем. 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спорт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Наименование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«Одаренный ребёнок = одаренный учитель»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Куратор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Дяксул Л.В. 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Операторы проекта: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МКУ «Районный методический кабинет» Ульчского муниципального района Хабаровского края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Цель проекта: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 создание современной образовательной среды для выявления и сопровождения одаренных детей.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Задачи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1" name="Содержимое 3" descr=""/>
          <p:cNvPicPr/>
          <p:nvPr/>
        </p:nvPicPr>
        <p:blipFill>
          <a:blip r:embed="rId1"/>
          <a:stretch/>
        </p:blipFill>
        <p:spPr>
          <a:xfrm>
            <a:off x="-974880" y="1487520"/>
            <a:ext cx="8137800" cy="5108400"/>
          </a:xfrm>
          <a:prstGeom prst="rect">
            <a:avLst/>
          </a:prstGeom>
          <a:ln w="0">
            <a:noFill/>
          </a:ln>
        </p:spPr>
      </p:pic>
      <p:pic>
        <p:nvPicPr>
          <p:cNvPr id="282" name="Схема 4" descr=""/>
          <p:cNvPicPr/>
          <p:nvPr/>
        </p:nvPicPr>
        <p:blipFill>
          <a:blip r:embed="rId2"/>
          <a:stretch/>
        </p:blipFill>
        <p:spPr>
          <a:xfrm>
            <a:off x="5437080" y="1316160"/>
            <a:ext cx="3382920" cy="479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ртнеры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828720" y="1603440"/>
            <a:ext cx="74865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Риски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700280"/>
          <a:ext cx="7417080" cy="4206960"/>
        </p:xfrm>
        <a:graphic>
          <a:graphicData uri="http://schemas.openxmlformats.org/drawingml/2006/table">
            <a:tbl>
              <a:tblPr/>
              <a:tblGrid>
                <a:gridCol w="3961080"/>
                <a:gridCol w="3456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Риски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Способы устранения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Незаинтересованность участников образовательного процесса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оздание системы поощрения как учащихся, так и педагогов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Дефицит высококвалифицированных высокомотивированных педагогических кадр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организация повышения квалификации педагогов, привлечение молодых специалист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лабая материально-техническая база, недостаточное финансирование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финансовое планирование, привлечение дополнительных финансовых средств (спонсорская помощь)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Ожидаемые результаты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8" name="Объект 4" descr=""/>
          <p:cNvPicPr/>
          <p:nvPr/>
        </p:nvPicPr>
        <p:blipFill>
          <a:blip r:embed="rId1"/>
          <a:stretch/>
        </p:blipFill>
        <p:spPr>
          <a:xfrm>
            <a:off x="804960" y="1603440"/>
            <a:ext cx="7553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0:01:16Z</dcterms:created>
  <dc:creator>Юрок</dc:creator>
  <dc:description/>
  <dc:language>en-US</dc:language>
  <cp:lastModifiedBy>Альбина Александровна Базгутдинова</cp:lastModifiedBy>
  <dcterms:modified xsi:type="dcterms:W3CDTF">2018-06-14T04:57:36Z</dcterms:modified>
  <cp:revision>50</cp:revision>
  <dc:subject/>
  <dc:title>Слайд 1</dc:title>
</cp:coreProperties>
</file>